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3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4.jpeg" ContentType="image/jpeg"/>
  <Override PartName="/ppt/media/image23.jpeg" ContentType="image/jpeg"/>
  <Override PartName="/ppt/media/image12.png" ContentType="image/png"/>
  <Override PartName="/ppt/media/image21.png" ContentType="image/png"/>
  <Override PartName="/ppt/media/image19.png" ContentType="image/png"/>
  <Override PartName="/ppt/media/image20.jpeg" ContentType="image/jpeg"/>
  <Override PartName="/ppt/media/image28.jpeg" ContentType="image/jpeg"/>
  <Override PartName="/ppt/media/image18.png" ContentType="image/png"/>
  <Override PartName="/ppt/media/image6.jpeg" ContentType="image/jpeg"/>
  <Override PartName="/ppt/media/image22.jpeg" ContentType="image/jpeg"/>
  <Override PartName="/ppt/media/image9.png" ContentType="image/png"/>
  <Override PartName="/ppt/media/image39.png" ContentType="image/png"/>
  <Override PartName="/ppt/media/image38.png" ContentType="image/png"/>
  <Override PartName="/ppt/media/image8.png" ContentType="image/png"/>
  <Override PartName="/ppt/media/image7.png" ContentType="image/png"/>
  <Override PartName="/ppt/media/image37.png" ContentType="image/png"/>
  <Override PartName="/ppt/media/image27.jpeg" ContentType="image/jpeg"/>
  <Override PartName="/ppt/media/image10.png" ContentType="image/png"/>
  <Override PartName="/ppt/media/image30.png" ContentType="image/png"/>
  <Override PartName="/ppt/media/image11.png" ContentType="image/png"/>
  <Override PartName="/ppt/media/image35.png" ContentType="image/png"/>
  <Override PartName="/ppt/media/image5.jpeg" ContentType="image/jpeg"/>
  <Override PartName="/ppt/media/image26.jpeg" ContentType="image/jpeg"/>
  <Override PartName="/ppt/media/image36.png" ContentType="image/png"/>
  <Override PartName="/ppt/media/image13.jpeg" ContentType="image/jpeg"/>
  <Override PartName="/ppt/media/image34.png" ContentType="image/png"/>
  <Override PartName="/ppt/media/image4.png" ContentType="image/png"/>
  <Override PartName="/ppt/media/image33.png" ContentType="image/png"/>
  <Override PartName="/ppt/media/image3.png" ContentType="image/png"/>
  <Override PartName="/ppt/media/image32.png" ContentType="image/png"/>
  <Override PartName="/ppt/media/image2.png" ContentType="image/png"/>
  <Override PartName="/ppt/media/image25.jpeg" ContentType="image/jpeg"/>
  <Override PartName="/ppt/media/image31.png" ContentType="image/png"/>
  <Override PartName="/ppt/media/image1.png" ContentType="image/png"/>
  <Override PartName="/ppt/media/image14.png" ContentType="image/png"/>
  <Override PartName="/ppt/media/image15.jpeg" ContentType="image/jpeg"/>
  <Override PartName="/ppt/media/image16.jpeg" ContentType="image/jpeg"/>
  <Override PartName="/ppt/media/image17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</p:sldIdLst>
  <p:sldSz cx="9144000" cy="6858000"/>
  <p:notesSz cx="6858000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6858000" cy="975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25"/>
          </p:nvPr>
        </p:nvSpPr>
        <p:spPr>
          <a:xfrm>
            <a:off x="3882600" y="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Img"/>
          </p:nvPr>
        </p:nvSpPr>
        <p:spPr>
          <a:xfrm>
            <a:off x="992160" y="731520"/>
            <a:ext cx="4872240" cy="3655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26"/>
          </p:nvPr>
        </p:nvSpPr>
        <p:spPr>
          <a:xfrm>
            <a:off x="-3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27"/>
          </p:nvPr>
        </p:nvSpPr>
        <p:spPr>
          <a:xfrm>
            <a:off x="388260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E22C0-4FA8-4A30-9741-78C197D9B8EF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992160" y="731880"/>
            <a:ext cx="4872240" cy="36558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3" name="슬라이드 번호 개체 틀 3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B1794-3BAB-4522-91EA-80247D4B74BD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AC7AA-2F5A-4571-8C7B-B83337C5CF12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5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F59C7-F6C7-4EE3-925D-E268DB868F16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B2E42-9003-468B-8FC8-035D05817DF5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1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1AC2B-EA9E-480E-B128-BAE8E5482A8E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4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78ECF-A444-4E5B-89C9-0DA7316895D4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7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C61D5-665A-4B25-82CD-E47374CF385E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0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ACA32-F3B7-4143-B9FA-E903B8BD6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83E5A-DB79-4E2B-9B38-B52C36D0E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6B17D-569F-41C3-8BFA-52E5CD314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92E1A-93C4-426A-A27D-8BA689064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64D57-A8F8-42ED-8908-FC1EF4959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29F86-9086-42E6-93F8-BBFFEB7C5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86806-94DC-4954-AD09-2F6A3516F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42989-C072-448A-AFC5-56D4B0E17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0D630-435A-4F2D-875F-2C2112554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E4A18-316C-4A76-A4D0-2795BACE4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D82D5-A9B5-4DB2-BDCE-4C5C6F0A4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41736-38DF-4F23-ACDD-FDA072B04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98C5E-1775-490A-A4D6-55F84EF7C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BD1B1-01F5-48ED-9D26-80AA14C99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506F0-77B6-42D8-A2E7-E47AC99A6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F13FB-F5BD-4E8F-A4D4-2B1509211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D4572-0E3B-4E2C-8BCD-E65B5FC76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230E66-39DC-43A1-874A-2EAAC8231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D9DD0C-7F49-4552-BE66-FC677144E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5AD767-050F-4D57-80D7-087A1A03D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8D06F6-15F9-47A0-9A13-E0DDC3ADC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55D0F1-503F-4E46-BC71-4C54075A5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6322C-B556-4BB9-B9A3-E5A9387DD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EDF50A-5F8F-4F73-8B1F-A23706E0C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E45CCD-2057-4D35-B9F4-8870E2EFF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E9C393-DC10-415A-ADDA-95AAF2015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A64B51-F749-491E-9375-9C80BCBB9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8B06FB-F380-40C9-89C3-15C9EB5F4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053EED-7992-4220-8903-8E902AD88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58B0F1-C87D-4A31-A25F-963530946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1EA2A6-ED11-4B6D-96DA-8F468D354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D3F164-272F-4C51-BF7A-9F780B9E1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659F88-7A10-4C72-9C90-8B1A2F213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13979-39CA-46A2-AE25-15FE042FE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F15AFF-6B6A-4707-9777-8567A0C0A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B50254-5754-4B9B-A9B3-ED6906823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4834E4-9E0E-4154-AE92-DDC937765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29B978-2BC3-4E2E-932C-431BF9481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9465D3-68EE-4441-A7A3-337244C34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C35677-34BF-42F6-B83E-6B700348C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F6B810-F1D0-4678-A4F7-522ECA23B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887268-DC98-4F78-8F3C-3BA2893B3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46162B-BC7D-486F-9533-EF0816A21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1B6592-A908-42CA-B63E-ABDC53D02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F77CA-45A0-471E-9013-0F9248BFF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8873BD-8D5C-4AA0-BD91-17BD4FECE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02DF25-BEA3-4FE5-BAD7-7B503C374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E45045-AE5C-44AA-94AD-5F266B344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5EFBA2-44A2-4823-A098-5C6B8E529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41F3CF-B952-49DE-8AED-480B29B5B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FB718F-A168-4F5C-A953-12D0E534C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EBDC33-BB30-4570-A042-B82584021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8330D7-9B61-4CDC-AC02-3F28356D4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F7B0CF-57C2-4E7F-ADCF-773D8C2F4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7F4EFE-41B7-4DAB-B4D7-2BEF4D4E7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80F2E-1A5A-4E3F-BC24-CCA03CE9F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0E3021-4D27-40C3-839B-7A3213AD1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A9AA6E-3F9C-4256-AA90-D1C626A9F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F62C25-ACE1-43F5-AF2D-046293DE8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EB6789-0321-47C1-9B5E-7B633BE20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9FA314-45E4-4C6D-9C7D-FA1310F68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2FFFF8-C7C5-445D-958B-E770579E1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54CB94-C09C-417F-A1C7-632989496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1D61B1-3C8B-472B-BBE0-E683F230A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A64343-9EF3-4E06-86AD-0864D3F73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A2FE91-9861-467D-98B7-569422B00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4FCA7-FDC7-4267-8BE1-5AEE06B60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341A96-AEE9-44F7-9989-BE1FF22D0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D05694-6AD3-4976-A955-FBDF6F55A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F61743-E0F4-41A0-9492-3ED1A2E17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3CD173-2C63-4E6F-A480-FD1EC91EC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61F86D-9287-43FF-AB38-F54B9EDAB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5DF3B4-C9B3-4173-8670-EB118023A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1FA307-A8E4-4A0F-AF95-A0E996D6A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E7ABB2-9CE5-449A-86E1-6020AD925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C0BB69-C6CB-4B83-8606-9554E61B1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686200-BA06-4471-9921-D95BCF34D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D8EFD-0B13-44E9-B5DE-95B0FFF7D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AB51AE-EBFB-4B78-B076-041FDA6E0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5AC267-F96C-480A-86AC-A82CCA12C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072D8E-16CD-4FC9-A98E-CE83A8843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D91A29-915E-4F97-B1B7-37FFC9A29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D31367-6BA1-4D3E-A36F-90827AF14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268466-7CE8-430F-B736-D01E9E12B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ACCCAB-368C-477F-979A-0373193A0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735532-0D74-40C3-9310-94F360309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45EE2E-4172-4387-A2AB-EE04722EB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DCBB88-8DB8-4A94-95AE-40D93877E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C80A9-5757-43CE-8CBE-81C6F2C6C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C9BD5E-AAEB-486F-A572-47BBC5455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0A2390-A61D-4BB2-977A-5E6B65697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AEEEED-AB1C-47A3-BE87-D9EAB3099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841D6A-74A4-4B6C-83FC-983671A5F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0AEB3E-A02B-4B54-AD65-E6095869B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C8DAA1-70A4-4992-B109-DCCBF6494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0D0A69-F7E1-4B09-9C85-73CEFA703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자유형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자유형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" name="직각 삼각형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직각 삼각형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5" name="직선 연결선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754F2-3951-4402-A3C6-81E3E2BCACF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직각 삼각형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8" name="그룹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자유형 16"/>
            <p:cNvSpPr/>
            <p:nvPr/>
          </p:nvSpPr>
          <p:spPr>
            <a:xfrm>
              <a:off x="1693440" y="4952880"/>
              <a:ext cx="7444440" cy="48600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0" name="자유형 18"/>
            <p:cNvSpPr/>
            <p:nvPr/>
          </p:nvSpPr>
          <p:spPr>
            <a:xfrm>
              <a:off x="45360" y="5236200"/>
              <a:ext cx="9092880" cy="78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51" name="자유형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자유형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pic>
          <p:nvPicPr>
            <p:cNvPr id="54" name="직선 연결선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47899-8CB7-4662-97C5-02CE75D547A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자유형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자유형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98" name="직각 삼각형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직각 삼각형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101" name="직선 연결선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갈매기형 수장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갈매기형 수장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9B042-41E0-4C37-B069-37C7564038D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자유형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자유형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7" name="직각 삼각형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직각 삼각형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150" name="직선 연결선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7DF31-793D-4764-B1A2-CD8587DEFDD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C172C-E2C0-4EA4-9E59-A116A74942C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자유형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자유형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35" name="직각 삼각형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직각 삼각형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238" name="직선 연결선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45629-A73C-49EC-9D21-2A3FFA244B9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4F266-04F0-4147-A3AA-48AC13B46F9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자유형 10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2" name="자유형 15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323" name="직각 삼각형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직각 삼각형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326" name="직선 연결선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갈매기형 수장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8" name="갈매기형 수장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57CE9-5088-4BF0-AAF3-79EB162AEFE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Rectangle 2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137440" cy="184752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685440" y="3886200"/>
            <a:ext cx="8226360" cy="17524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64646"/>
                </a:solidFill>
                <a:latin typeface="Lucida Sans Unicode"/>
              </a:rPr>
              <a:t>                                                  </a:t>
            </a:r>
            <a:r>
              <a:rPr b="0" lang="en-US" sz="2200" spc="-1" strike="noStrike">
                <a:solidFill>
                  <a:srgbClr val="464646"/>
                </a:solidFill>
                <a:latin typeface="HY강B"/>
                <a:ea typeface="HY강B"/>
              </a:rPr>
              <a:t>5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조 김보기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                                                    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조원준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                                                     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강경구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                                                     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하수은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                                                     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신한별 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 txBox="1"/>
          <p:nvPr/>
        </p:nvSpPr>
        <p:spPr>
          <a:xfrm>
            <a:off x="457200" y="1241280"/>
            <a:ext cx="8229600" cy="476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발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톨루엔 성분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포름알데히드 함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벤젠의 수소원자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개를 메틸기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基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로 치환한 화합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무색의 액체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석탄을 건류하여 얻은 경유를 황산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으로 씻은 다음 정류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精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)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하여 만듬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피부 보호막 녹이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 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피부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두통 일으킴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중추신경 장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혼수상태 등 유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0" name="Rectangle 2" descr=""/>
          <p:cNvPicPr/>
          <p:nvPr/>
        </p:nvPicPr>
        <p:blipFill>
          <a:blip r:embed="rId1"/>
          <a:stretch/>
        </p:blipFill>
        <p:spPr>
          <a:xfrm>
            <a:off x="360360" y="268200"/>
            <a:ext cx="833292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 txBox="1"/>
          <p:nvPr/>
        </p:nvSpPr>
        <p:spPr>
          <a:xfrm>
            <a:off x="272880" y="1323720"/>
            <a:ext cx="8413920" cy="480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포름알데히드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함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메탄올을 산화시켜 얻는 기체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로자극적인  냄새 남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환원성이 강함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알레르기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접촉성 피부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두드러기 등 일으킴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결막에 큰 자극줌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2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 txBox="1"/>
          <p:nvPr/>
        </p:nvSpPr>
        <p:spPr>
          <a:xfrm>
            <a:off x="457200" y="122868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접착부분이 화학성분으로 이루어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짐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  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포름알데히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(Formaldehyde)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검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눈두덩 피부를 자극하여 염증이 생기거나  색소침착이 생겨 단단하게 만듬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장기간 사용할 경우 피부가 늘어지게 됨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려움증으로 눈이 빨갛게 충혈되는 현상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발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4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가발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고정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가발 망의 실리콘 테두리를 이용하여 두피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에 고정하는 방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탈 부착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의료용 양면 테이프를 이용하여 고정하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는 방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혼합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특수 제작된 패치를 이용하여 자신의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모발이나 두피에 부착하는 다기능 부착공법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6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 txBox="1"/>
          <p:nvPr/>
        </p:nvSpPr>
        <p:spPr>
          <a:xfrm>
            <a:off x="457200" y="2101320"/>
            <a:ext cx="4038480" cy="40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408" name="Picture 5" descr="http://cfs12.blog.daum.net/original/16/blog/2008/02/19/12/11/47ba48c55d83c&amp;filename=DSC00419.JPG"/>
          <p:cNvPicPr/>
          <p:nvPr/>
        </p:nvPicPr>
        <p:blipFill>
          <a:blip r:embed="rId1"/>
          <a:stretch/>
        </p:blipFill>
        <p:spPr>
          <a:xfrm>
            <a:off x="4681440" y="1346040"/>
            <a:ext cx="3784680" cy="4534200"/>
          </a:xfrm>
          <a:prstGeom prst="rect">
            <a:avLst/>
          </a:prstGeom>
          <a:ln w="0">
            <a:noFill/>
          </a:ln>
        </p:spPr>
      </p:pic>
      <p:pic>
        <p:nvPicPr>
          <p:cNvPr id="409" name="제목 11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17" descr="5409209782"/>
          <p:cNvPicPr/>
          <p:nvPr/>
        </p:nvPicPr>
        <p:blipFill>
          <a:blip r:embed="rId3"/>
          <a:stretch/>
        </p:blipFill>
        <p:spPr>
          <a:xfrm>
            <a:off x="457200" y="1346040"/>
            <a:ext cx="4224240" cy="478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눈이 가늘고 좁은 경우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속눈썹길이 반으로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잘라 눈썹 끝에만 붙임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속 쌍꺼풀인 경우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속눈썹길이 반보다 길게 잘      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라 눈앞머리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1/3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띄우고 붙임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눈에 힘이 없고 라인이 분명 하지 않은 경우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부분속눈썹을 전체적으로 붙임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2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Picture 7" descr="1111"/>
          <p:cNvPicPr/>
          <p:nvPr/>
        </p:nvPicPr>
        <p:blipFill>
          <a:blip r:embed="rId1"/>
          <a:stretch/>
        </p:blipFill>
        <p:spPr>
          <a:xfrm>
            <a:off x="457200" y="1855800"/>
            <a:ext cx="3695760" cy="352116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9" descr="이미지 썸네일"/>
          <p:cNvPicPr/>
          <p:nvPr/>
        </p:nvPicPr>
        <p:blipFill>
          <a:blip r:embed="rId2"/>
          <a:stretch/>
        </p:blipFill>
        <p:spPr>
          <a:xfrm>
            <a:off x="4152960" y="1855800"/>
            <a:ext cx="4295880" cy="3521160"/>
          </a:xfrm>
          <a:prstGeom prst="rect">
            <a:avLst/>
          </a:prstGeom>
          <a:ln w="0">
            <a:noFill/>
          </a:ln>
        </p:spPr>
      </p:pic>
      <p:pic>
        <p:nvPicPr>
          <p:cNvPr id="415" name="Rectangle 5" descr=""/>
          <p:cNvPicPr/>
          <p:nvPr/>
        </p:nvPicPr>
        <p:blipFill>
          <a:blip r:embed="rId3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 txBox="1"/>
          <p:nvPr/>
        </p:nvSpPr>
        <p:spPr>
          <a:xfrm>
            <a:off x="457200" y="1599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7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18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19" name="Picture 3" descr="C:\Documents and Settings\user\바탕 화면\1.JPG"/>
          <p:cNvPicPr/>
          <p:nvPr/>
        </p:nvPicPr>
        <p:blipFill>
          <a:blip r:embed="rId2"/>
          <a:stretch/>
        </p:blipFill>
        <p:spPr>
          <a:xfrm>
            <a:off x="1986120" y="2219400"/>
            <a:ext cx="5171760" cy="161604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4" descr="C:\Documents and Settings\user\바탕 화면\2.JPG"/>
          <p:cNvPicPr/>
          <p:nvPr/>
        </p:nvPicPr>
        <p:blipFill>
          <a:blip r:embed="rId3"/>
          <a:stretch/>
        </p:blipFill>
        <p:spPr>
          <a:xfrm>
            <a:off x="1986120" y="3835440"/>
            <a:ext cx="5171760" cy="164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1" descr="C:\Documents and Settings\user\바탕 화면\3.JPG"/>
          <p:cNvPicPr/>
          <p:nvPr/>
        </p:nvPicPr>
        <p:blipFill>
          <a:blip r:embed="rId2"/>
          <a:stretch/>
        </p:blipFill>
        <p:spPr>
          <a:xfrm>
            <a:off x="457200" y="1663560"/>
            <a:ext cx="5229360" cy="144936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2" descr="C:\Documents and Settings\user\바탕 화면\4.JPG"/>
          <p:cNvPicPr/>
          <p:nvPr/>
        </p:nvPicPr>
        <p:blipFill>
          <a:blip r:embed="rId3"/>
          <a:stretch/>
        </p:blipFill>
        <p:spPr>
          <a:xfrm>
            <a:off x="2335320" y="1663560"/>
            <a:ext cx="5200560" cy="1449360"/>
          </a:xfrm>
          <a:prstGeom prst="rect">
            <a:avLst/>
          </a:prstGeom>
          <a:ln w="0">
            <a:noFill/>
          </a:ln>
        </p:spPr>
      </p:pic>
      <p:sp>
        <p:nvSpPr>
          <p:cNvPr id="424" name="TextBox 6"/>
          <p:cNvSpPr/>
          <p:nvPr/>
        </p:nvSpPr>
        <p:spPr>
          <a:xfrm>
            <a:off x="457200" y="3421080"/>
            <a:ext cx="82296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붙일 위치를 깨끗이 닦아 쌍 커풀 라인 위치 잡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2. Y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자 스틱을 투명테이프에 반 정도 붙여 테이프를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살짝</a:t>
            </a: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눌러줌</a:t>
            </a: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3. Y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자 스틱으로 쌍 커풀 테이프를 눌러 라인 형성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하여 안정이 되게 함</a:t>
            </a: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"/>
          <p:cNvSpPr txBox="1"/>
          <p:nvPr/>
        </p:nvSpPr>
        <p:spPr>
          <a:xfrm>
            <a:off x="177480" y="1187280"/>
            <a:ext cx="8761320" cy="481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1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클립으로 탈착 할수 있는 형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필요와 사용목적에 따라 클립을 사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1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머리핀을 이용한 인조가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머리 치장을 위해 모발 염색을 해야하는 불편함과 모발손상을 없애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모발 어느 위치에도 간편하게 다양한 칼라의 머리카락을 위치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개성 있게 표현할 수 있음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6" name="제목 8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457200" y="1143000"/>
            <a:ext cx="40384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접착 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1.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미용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가발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인조속눈썹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아이참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1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이용 목적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2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종류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3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접착 성분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4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유해물질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5)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착용방법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과정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6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해결방안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Lucida Sans Unicode"/>
              </a:rPr>
              <a:t>               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648320" y="1143000"/>
            <a:ext cx="40384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2.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식품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: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푸드바인드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멜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    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라민파동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1)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피해사례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2)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해결방안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81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속눈썹연장세럼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자연성분인 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펩타이드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 주원료로 부작용없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효과가 확실하며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주 정도 사용으로 확실하게 달라진 속눈썹을 느낄 수 있음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펩타이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미노산의 중합체임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소수의 아미노산이 연결된 형태→ 펩티드많은 아미노산이 연결→단백질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8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피부가 쳐지는 경향이 있으므로 가능하면 사용을 자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매몰 법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절개 법 시술로 비용은 들지만 효과는 아이참 보다 배로 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0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 txBox="1"/>
          <p:nvPr/>
        </p:nvSpPr>
        <p:spPr>
          <a:xfrm>
            <a:off x="627120" y="2169720"/>
            <a:ext cx="8229600" cy="364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Lucida Sans Unicode"/>
              </a:rPr>
              <a:t>                               </a:t>
            </a:r>
            <a:endParaRPr b="0" lang="en-US" sz="5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ko-KR" sz="5400" spc="-1" strike="noStrike">
                <a:solidFill>
                  <a:srgbClr val="000000"/>
                </a:solidFill>
                <a:latin typeface="HY강B"/>
                <a:ea typeface="HY강B"/>
              </a:rPr>
              <a:t>푸드바인드</a:t>
            </a:r>
            <a:r>
              <a:rPr b="0" lang="en-US" sz="54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5400" spc="-1" strike="noStrike">
                <a:solidFill>
                  <a:srgbClr val="000000"/>
                </a:solidFill>
                <a:latin typeface="HY강B"/>
                <a:ea typeface="HY강B"/>
              </a:rPr>
              <a:t>멜라민파동</a:t>
            </a:r>
            <a:endParaRPr b="0" lang="en-US" sz="5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2" name="제목 2" descr=""/>
          <p:cNvPicPr/>
          <p:nvPr/>
        </p:nvPicPr>
        <p:blipFill>
          <a:blip r:embed="rId1"/>
          <a:stretch/>
        </p:blipFill>
        <p:spPr>
          <a:xfrm>
            <a:off x="622440" y="2724120"/>
            <a:ext cx="824040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Rectang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34" name="AutoShape 3"/>
          <p:cNvSpPr/>
          <p:nvPr/>
        </p:nvSpPr>
        <p:spPr>
          <a:xfrm>
            <a:off x="1143000" y="2825640"/>
            <a:ext cx="2765520" cy="2073240"/>
          </a:xfrm>
          <a:prstGeom prst="roundRect">
            <a:avLst>
              <a:gd name="adj" fmla="val 6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5" name="AutoShape 5"/>
          <p:cNvSpPr/>
          <p:nvPr/>
        </p:nvSpPr>
        <p:spPr>
          <a:xfrm>
            <a:off x="990720" y="2825640"/>
            <a:ext cx="2765160" cy="20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36" name="foodbind.avi" descr=""/>
          <p:cNvPicPr/>
          <p:nvPr/>
        </p:nvPicPr>
        <p:blipFill>
          <a:blip r:embed="rId2"/>
          <a:stretch/>
        </p:blipFill>
        <p:spPr>
          <a:xfrm>
            <a:off x="3048120" y="2600280"/>
            <a:ext cx="3047760" cy="228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1334" fill="hold"/>
                                        <p:tgtEl>
                                          <p:spTgt spid="4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435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435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4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" restart="whenNotActive" nodeType="interactiveSeq" fill="hold">
                <p:stCondLst>
                  <p:cond evt="onClick">
                    <p:tgtEl>
                      <p:spTgt spid="436"/>
                    </p:tgtEl>
                  </p:cond>
                </p:stCondLst>
                <p:childTnLst>
                  <p:par>
                    <p:cTn id="13" fill="hold">
                      <p:stCondLst>
                        <p:cond evt="onClick">
                          <p:tgtEl>
                            <p:spTgt spid="436"/>
                          </p:tgtEl>
                        </p:cond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6" dur="1" fill="hold"/>
                                        <p:tgtEl>
                                          <p:spTgt spid="4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Rectangle 1" descr=""/>
          <p:cNvPicPr/>
          <p:nvPr/>
        </p:nvPicPr>
        <p:blipFill>
          <a:blip r:embed="rId1"/>
          <a:stretch/>
        </p:blipFill>
        <p:spPr>
          <a:xfrm>
            <a:off x="195120" y="285840"/>
            <a:ext cx="8498160" cy="1098360"/>
          </a:xfrm>
          <a:prstGeom prst="rect">
            <a:avLst/>
          </a:prstGeom>
          <a:ln w="0">
            <a:noFill/>
          </a:ln>
        </p:spPr>
      </p:pic>
      <p:sp>
        <p:nvSpPr>
          <p:cNvPr id="438" name="PlaceHolder 1"/>
          <p:cNvSpPr>
            <a:spLocks noGrp="1"/>
          </p:cNvSpPr>
          <p:nvPr>
            <p:ph/>
          </p:nvPr>
        </p:nvSpPr>
        <p:spPr>
          <a:xfrm>
            <a:off x="457200" y="1604520"/>
            <a:ext cx="82281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계란흰자분말과감자전분등이 주원료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잘게 부숴진 고기를 결합시키는 용도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고가의 갈비를 정상적인방법으로 위생적으로 조리할때 사용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인체에는 무해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Rectang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40" name="PlaceHolder 1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해결방안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생갈비와 접착갈비 법적구분을 정확하게 제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집중단속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축산물가공처리 법과 시행규칙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농림부 고시 등 관계 법령을 수정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1" name="Rectang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42" name="AutoShape 3"/>
          <p:cNvSpPr/>
          <p:nvPr/>
        </p:nvSpPr>
        <p:spPr>
          <a:xfrm>
            <a:off x="1143000" y="2940120"/>
            <a:ext cx="2765520" cy="2073240"/>
          </a:xfrm>
          <a:prstGeom prst="roundRect">
            <a:avLst>
              <a:gd name="adj" fmla="val 6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3" name="AutoShape 5"/>
          <p:cNvSpPr/>
          <p:nvPr/>
        </p:nvSpPr>
        <p:spPr>
          <a:xfrm>
            <a:off x="1143000" y="2940120"/>
            <a:ext cx="2765520" cy="20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44" name="mel.avi" descr=""/>
          <p:cNvPicPr/>
          <p:nvPr/>
        </p:nvPicPr>
        <p:blipFill>
          <a:blip r:embed="rId2"/>
          <a:stretch/>
        </p:blipFill>
        <p:spPr>
          <a:xfrm>
            <a:off x="3048120" y="2600280"/>
            <a:ext cx="3047760" cy="228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" dur="39267" fill="hold"/>
                                        <p:tgtEl>
                                          <p:spTgt spid="4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" restart="whenNotActive" nodeType="interactiveSeq" fill="hold">
                <p:stCondLst>
                  <p:cond evt="onClick">
                    <p:tgtEl>
                      <p:spTgt spid="443"/>
                    </p:tgtEl>
                  </p:cond>
                </p:stCondLst>
                <p:childTnLst>
                  <p:par>
                    <p:cTn id="24" fill="hold">
                      <p:stCondLst>
                        <p:cond evt="onClick">
                          <p:tgtEl>
                            <p:spTgt spid="443"/>
                          </p:tgtEl>
                        </p:cond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7" dur="1" fill="hold"/>
                                        <p:tgtEl>
                                          <p:spTgt spid="4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" restart="whenNotActive" nodeType="interactiveSeq" fill="hold">
                <p:stCondLst>
                  <p:cond evt="onClick">
                    <p:tgtEl>
                      <p:spTgt spid="444"/>
                    </p:tgtEl>
                  </p:cond>
                </p:stCondLst>
                <p:childTnLst>
                  <p:par>
                    <p:cTn id="29" fill="hold">
                      <p:stCondLst>
                        <p:cond evt="onClick">
                          <p:tgtEl>
                            <p:spTgt spid="444"/>
                          </p:tgtEl>
                        </p:cond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2" dur="1" fill="hold"/>
                                        <p:tgtEl>
                                          <p:spTgt spid="4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5" name="Rectang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46" name="PlaceHolder 1"/>
          <p:cNvSpPr>
            <a:spLocks noGrp="1"/>
          </p:cNvSpPr>
          <p:nvPr>
            <p:ph/>
          </p:nvPr>
        </p:nvSpPr>
        <p:spPr>
          <a:xfrm>
            <a:off x="457200" y="1419120"/>
            <a:ext cx="8228160" cy="471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신장결석이나 신부전증 환자가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53,000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명이 발생하였고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이 중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12,800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명은 입원치료를 받고 있으며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4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명의 유아가 사망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멜라민은 우유에 첨가할 경우 단백질의 함유량을 실제보다 부풀릴 수 있기에 사용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중국산 식품에 대한 신뢰도 큰 타격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7" name="Rectangle 1" descr=""/>
          <p:cNvPicPr/>
          <p:nvPr/>
        </p:nvPicPr>
        <p:blipFill>
          <a:blip r:embed="rId1"/>
          <a:stretch/>
        </p:blipFill>
        <p:spPr>
          <a:xfrm>
            <a:off x="195120" y="285840"/>
            <a:ext cx="8498160" cy="1098360"/>
          </a:xfrm>
          <a:prstGeom prst="rect">
            <a:avLst/>
          </a:prstGeom>
          <a:ln w="0">
            <a:noFill/>
          </a:ln>
        </p:spPr>
      </p:pic>
      <p:sp>
        <p:nvSpPr>
          <p:cNvPr id="448" name="PlaceHolder 1"/>
          <p:cNvSpPr>
            <a:spLocks noGrp="1"/>
          </p:cNvSpPr>
          <p:nvPr>
            <p:ph/>
          </p:nvPr>
        </p:nvSpPr>
        <p:spPr>
          <a:xfrm>
            <a:off x="457200" y="1604520"/>
            <a:ext cx="82281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해결방안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정부가 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`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위해 요소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`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와 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`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품질 관리 요소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`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를 명확히 구분해 정책을 수립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집행 해야함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식품안전처와 같은 제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의 독립기구 설립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9" name="제목 3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089920" cy="1841400"/>
          </a:xfrm>
          <a:prstGeom prst="rect">
            <a:avLst/>
          </a:prstGeom>
          <a:ln w="0">
            <a:noFill/>
          </a:ln>
        </p:spPr>
      </p:pic>
      <p:sp>
        <p:nvSpPr>
          <p:cNvPr id="450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27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제목 4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089920" cy="1841400"/>
          </a:xfrm>
          <a:prstGeom prst="rect">
            <a:avLst/>
          </a:prstGeom>
          <a:ln w="0">
            <a:noFill/>
          </a:ln>
        </p:spPr>
      </p:pic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464646"/>
                </a:solidFill>
                <a:latin typeface="HY강B"/>
                <a:ea typeface="HY강B"/>
              </a:rPr>
              <a:t>가발</a:t>
            </a:r>
            <a:r>
              <a:rPr b="0" lang="en-US" sz="4000" spc="-1" strike="noStrike">
                <a:solidFill>
                  <a:srgbClr val="464646"/>
                </a:solidFill>
                <a:latin typeface="HY강B"/>
                <a:ea typeface="HY강B"/>
              </a:rPr>
              <a:t>,</a:t>
            </a:r>
            <a:r>
              <a:rPr b="0" lang="ko-KR" sz="4000" spc="-1" strike="noStrike">
                <a:solidFill>
                  <a:srgbClr val="464646"/>
                </a:solidFill>
                <a:latin typeface="HY강B"/>
                <a:ea typeface="HY강B"/>
              </a:rPr>
              <a:t>인조속눈썹</a:t>
            </a:r>
            <a:r>
              <a:rPr b="0" lang="en-US" sz="4000" spc="-1" strike="noStrike">
                <a:solidFill>
                  <a:srgbClr val="464646"/>
                </a:solidFill>
                <a:latin typeface="HY강B"/>
                <a:ea typeface="HY강B"/>
              </a:rPr>
              <a:t>,</a:t>
            </a:r>
            <a:r>
              <a:rPr b="0" lang="ko-KR" sz="4000" spc="-1" strike="noStrike">
                <a:solidFill>
                  <a:srgbClr val="464646"/>
                </a:solidFill>
                <a:latin typeface="HY강B"/>
                <a:ea typeface="HY강B"/>
              </a:rPr>
              <a:t>아이참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456840" y="1143000"/>
            <a:ext cx="8427960" cy="523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분장용이나 장식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무대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·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연예용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·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의례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·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법관용 등 특종 직업용 사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속눈썹숱이적어 마스카라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효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보지못하는사람위함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쌍커풀이 없거나 쌍커풀선이 약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사람들이 이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5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.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탈모용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전체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부분가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패션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악세서리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연극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마네킹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코스프레용가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의료용가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익스텐션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짧은머리를 긴머리로바꾸는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붙임머리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7" name="Rectangle 2" descr=""/>
          <p:cNvPicPr/>
          <p:nvPr/>
        </p:nvPicPr>
        <p:blipFill>
          <a:blip r:embed="rId1"/>
          <a:stretch/>
        </p:blipFill>
        <p:spPr>
          <a:xfrm>
            <a:off x="360360" y="268200"/>
            <a:ext cx="833292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형태별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눈썹의 양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길이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색상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심는형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눈썹의 숱 많이 표현 하고자       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하는부위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굵고 긴 형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굵고 짧은 형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얇고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긴 형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얇고 짧은 형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9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Picture 4" descr="접착제"/>
          <p:cNvPicPr/>
          <p:nvPr/>
        </p:nvPicPr>
        <p:blipFill>
          <a:blip r:embed="rId1"/>
          <a:stretch/>
        </p:blipFill>
        <p:spPr>
          <a:xfrm>
            <a:off x="763560" y="1600200"/>
            <a:ext cx="3398760" cy="4525920"/>
          </a:xfrm>
          <a:prstGeom prst="rect">
            <a:avLst/>
          </a:prstGeom>
          <a:ln w="0">
            <a:noFill/>
          </a:ln>
        </p:spPr>
      </p:pic>
      <p:sp>
        <p:nvSpPr>
          <p:cNvPr id="391" name=""/>
          <p:cNvSpPr txBox="1"/>
          <p:nvPr/>
        </p:nvSpPr>
        <p:spPr>
          <a:xfrm>
            <a:off x="4162320" y="1600200"/>
            <a:ext cx="4694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1.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가발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HY강B"/>
                <a:ea typeface="HY강B"/>
              </a:rPr>
              <a:t>: </a:t>
            </a:r>
            <a:r>
              <a:rPr b="0" lang="ko-KR" sz="3200" spc="-1" strike="noStrike" u="sng">
                <a:solidFill>
                  <a:srgbClr val="ffffff"/>
                </a:solidFill>
                <a:uFillTx/>
                <a:latin typeface="HY강B"/>
                <a:ea typeface="HY강B"/>
              </a:rPr>
              <a:t>노테이프본드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실리콘접착제로 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고정부착형가발에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사용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, 2-3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주이상의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강한접착력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92" name="제목 1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내용 개체 틀 10" descr="5482855381.jpg"/>
          <p:cNvPicPr/>
          <p:nvPr/>
        </p:nvPicPr>
        <p:blipFill>
          <a:blip r:embed="rId1"/>
          <a:stretch/>
        </p:blipFill>
        <p:spPr>
          <a:xfrm>
            <a:off x="846000" y="2033640"/>
            <a:ext cx="3206880" cy="3562200"/>
          </a:xfrm>
          <a:prstGeom prst="rect">
            <a:avLst/>
          </a:prstGeom>
          <a:ln w="0">
            <a:noFill/>
          </a:ln>
        </p:spPr>
      </p:pic>
      <p:sp>
        <p:nvSpPr>
          <p:cNvPr id="394" name=""/>
          <p:cNvSpPr txBox="1"/>
          <p:nvPr/>
        </p:nvSpPr>
        <p:spPr>
          <a:xfrm>
            <a:off x="4340160" y="1600200"/>
            <a:ext cx="4346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인조속눈썹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  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 u="sng">
                <a:solidFill>
                  <a:srgbClr val="ffffff"/>
                </a:solidFill>
                <a:uFillTx/>
                <a:latin typeface="HY강B"/>
                <a:ea typeface="HY강B"/>
              </a:rPr>
              <a:t>글루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접착제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   </a:t>
            </a:r>
            <a:r>
              <a:rPr b="0" i="1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아세트산비닐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i="1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수지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로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독성이없어 안전하며 마른후에도 씻어낼수있음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95" name="제목 6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 txBox="1"/>
          <p:nvPr/>
        </p:nvSpPr>
        <p:spPr>
          <a:xfrm>
            <a:off x="4648320" y="1582200"/>
            <a:ext cx="40384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3.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아이참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양면성 테이프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점착제가 발라져 있음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풀이나 고무풀 등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97" name="내용 개체 틀 4" descr="123.jpg"/>
          <p:cNvPicPr/>
          <p:nvPr/>
        </p:nvPicPr>
        <p:blipFill>
          <a:blip r:embed="rId1"/>
          <a:stretch/>
        </p:blipFill>
        <p:spPr>
          <a:xfrm>
            <a:off x="287280" y="2224080"/>
            <a:ext cx="4038480" cy="2735280"/>
          </a:xfrm>
          <a:prstGeom prst="rect">
            <a:avLst/>
          </a:prstGeom>
          <a:ln w="0">
            <a:noFill/>
          </a:ln>
        </p:spPr>
      </p:pic>
      <p:pic>
        <p:nvPicPr>
          <p:cNvPr id="398" name="제목 1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1T12:28:52Z</dcterms:created>
  <dc:creator>sec</dc:creator>
  <dc:description/>
  <dc:language>en-US</dc:language>
  <cp:lastModifiedBy>sec</cp:lastModifiedBy>
  <dcterms:modified xsi:type="dcterms:W3CDTF">2009-12-02T04:33:16Z</dcterms:modified>
  <cp:revision>29</cp:revision>
  <dc:subject/>
  <dc:title>등잔밑이 어둡다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0</vt:r8>
  </property>
</Properties>
</file>